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73258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20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636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2760" y="-360"/>
            <a:ext cx="291636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0000" y="739440"/>
            <a:ext cx="49341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3200" y="4687920"/>
            <a:ext cx="5384880" cy="44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2240"/>
            <a:ext cx="291636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2760" y="9372240"/>
            <a:ext cx="291636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772D9CA0-CA43-4F8C-B2CC-78AB27FD8B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812760" y="9372240"/>
            <a:ext cx="291636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EAA8F6DF-6666-4738-A4D1-6D85D4B744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-360" y="9372240"/>
            <a:ext cx="291636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-360" y="-360"/>
            <a:ext cx="291636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812760" y="-360"/>
            <a:ext cx="291636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96400" y="4687920"/>
            <a:ext cx="49374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812760" y="9372240"/>
            <a:ext cx="291636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8714E661-FD95-436C-8A6C-0BC64A6A18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-360" y="9372240"/>
            <a:ext cx="291636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-360" y="-360"/>
            <a:ext cx="291636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812760" y="-360"/>
            <a:ext cx="291636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32360" cy="369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896400" y="4687920"/>
            <a:ext cx="49374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3812760" y="9372240"/>
            <a:ext cx="291636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6D4928B3-74DA-439C-94FB-9A04E44102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-360" y="9372240"/>
            <a:ext cx="291636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-360" y="-360"/>
            <a:ext cx="291636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812760" y="-360"/>
            <a:ext cx="291636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32360" cy="369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96400" y="4687920"/>
            <a:ext cx="49374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405E-4791-404F-80B9-88F5343B6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8511-6C5F-4CAC-86D5-1E3C8D461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5476-2220-42FB-9DA8-FFD876354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B2BD-140B-4B10-8E4A-ACED552A4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3F66-E7DA-4B3C-B14C-B558B88F6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42FB-3AF7-4B47-A1B3-84B7E23EC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B396-2405-4B93-BE45-C3A04F779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BA7D-1B47-4307-80C5-E2E202710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C3F2-2F1F-4699-8AF5-2D77D75A3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B598-1820-4C9C-A152-F63BCA45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6F8F-0E35-40E3-B07E-E812B8BA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5788-9DB1-4FB0-957D-884231456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FC576-BCC7-43CB-8F50-671F125F80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26920" y="2349360"/>
            <a:ext cx="79203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 реализации  политики в управлении территориальными системами здравоохра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.м.н. С.Г.Нукуш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87280" y="404640"/>
            <a:ext cx="741708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инистерство здравоохран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еспублики Казахста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6480" y="6093000"/>
            <a:ext cx="381780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ктября 2006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33200" y="95400"/>
            <a:ext cx="909720" cy="89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09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Перспективы развития охраны здоровья матери и ребен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353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250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аботка и реализация с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1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января 2007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ода программы по снижению материнской и младенческой смертности в Республике Казахстан до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201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ода и переход с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2008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ода на критерии живорожденности, рекомендованные ВО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вершение строительства Республиканского центра материнства и детства на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500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ек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2006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оду и, Республиканского детского реабилитационного центра в г.Астана на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30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ек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2007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2009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ода все детские и родовспомогательные организации будут оснащены медицинским оборудованием в соответствии с утвержденными норматив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D4DC-D0F8-489A-B314-987D98E8238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0680" y="189000"/>
            <a:ext cx="8364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a50021"/>
                </a:solidFill>
                <a:latin typeface="Arial"/>
              </a:rPr>
              <a:t>Заболеваемость и смертность от туберкулеза </a:t>
            </a:r>
            <a:br>
              <a:rPr sz="2600"/>
            </a:br>
            <a:r>
              <a:rPr b="1" lang="ru-RU" sz="2600" spc="-1" strike="noStrike">
                <a:solidFill>
                  <a:srgbClr val="a50021"/>
                </a:solidFill>
                <a:latin typeface="Arial"/>
              </a:rPr>
              <a:t>в Казахстане</a:t>
            </a: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, 1990-200</a:t>
            </a:r>
            <a:r>
              <a:rPr b="1" lang="ru-RU" sz="2600" spc="-1" strike="noStrike">
                <a:solidFill>
                  <a:srgbClr val="a50021"/>
                </a:solidFill>
                <a:latin typeface="Arial"/>
              </a:rPr>
              <a:t>5 год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539640" y="909720"/>
          <a:ext cx="792000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909720"/>
                    <a:ext cx="79200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4100400" y="1244520"/>
            <a:ext cx="1752840" cy="1676520"/>
          </a:xfrm>
          <a:prstGeom prst="ellipse">
            <a:avLst/>
          </a:prstGeom>
          <a:noFill/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211640" y="3084120"/>
            <a:ext cx="1512720" cy="1392840"/>
          </a:xfrm>
          <a:prstGeom prst="upArrow">
            <a:avLst>
              <a:gd name="adj1" fmla="val 43491"/>
              <a:gd name="adj2" fmla="val 37046"/>
            </a:avLst>
          </a:prstGeom>
          <a:solidFill>
            <a:srgbClr val="ffff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D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5280" y="5373720"/>
            <a:ext cx="843264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инамика эпидемиологической ситуации по туберкулезу по данным ВОЗ оценивается за период  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Arial"/>
              </a:rPr>
              <a:t>не менее 10 л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охраняющаяся высокая заболеваемость является последствием неэффективного лечения  в середине 1990-х год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B65F-0516-48CF-B403-F550A5A7B7C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Повышение эффективности программ по борьбе с туберкулезо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200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ду проводится  оценка эффективности программ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OT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плюс и с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2007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да будет внедрена она в более усовершенствованной форме, включая лечение мультирезистентных фор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нхронизация и усиление реализации республиканского и региональных программ по борьбе с туберкулез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формирование фтизиатрической службы республики и ее интеграция  с ПМСП и службами социальной защиты нас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7D2F-2C05-4E89-8A43-D373ABA0DAE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Регистрация  ВИЧ-инфекции среди населения </a:t>
            </a:r>
            <a:br>
              <a:rPr sz="2400"/>
            </a:b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Республики Казахстан с 1987 - 2004 гг.(в случая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0" y="476280"/>
          <a:ext cx="9144000" cy="568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76280"/>
                    <a:ext cx="9144000" cy="56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52E7-F205-4B4A-82B1-CA7D201E35C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Меры по противодействию ВИЧ/СПИД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ан  межотраслевая Программа по противодействию эпидемии СПИДа в Республике Казахстан на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2006-201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жегодно увеличивается охват антиретровирусной терапией больных с ВИЧ/СПИ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билизованы ресурсы международных доноров, в том числе гранты Глобального фонда по борьбе со СПИДом, туберкулезом и малярией в сумме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2,4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ллиона долларов США и Всемирного банка в сумме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7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ллионов долларов США, подписан Меморандум с Инициативой Фонда Клинт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4134-A36E-4D56-9C97-B18E28AA686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138240"/>
            <a:ext cx="8002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Совершенствование качества </a:t>
            </a:r>
            <a:br>
              <a:rPr sz="2600"/>
            </a:b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медицинской помощ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820908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2010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оду гг. будет создана система управления качеством медицинской помощи в соответствии с международными стандартами, состоящая из трех уровне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-й уровень – внутрибольничный контр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-й уровень – независимая медицинская эксперти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-й уровень – обязательный государственный контр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 1 июля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200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года начато внедрение протоколов диагностики и лечения по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наиболее часто встречающимся заболеваниям с целью улучшения контроля качества за предоставляемыми услуг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449E-BE39-47D8-861C-F87A2758850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Расходы стран на здравоохранение </a:t>
            </a:r>
            <a:br>
              <a:rPr sz="2600"/>
            </a:b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в % от ВВП (2004 г.)*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0" y="981000"/>
          <a:ext cx="9144000" cy="432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81000"/>
                    <a:ext cx="914400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250920" y="5589720"/>
            <a:ext cx="864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    Данные ОЭСР (Организации экономического сотрудничества и развития)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2005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год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E403-0124-4C60-86CC-A45E86FD655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11280" y="18900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a50021"/>
                </a:solidFill>
                <a:latin typeface="Arial"/>
              </a:rPr>
              <a:t>Показатели бюджетного финансирования отрасли здравоохранения в 200</a:t>
            </a: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2</a:t>
            </a:r>
            <a:r>
              <a:rPr b="1" lang="ru-RU" sz="2600" spc="-1" strike="noStrike">
                <a:solidFill>
                  <a:srgbClr val="a50021"/>
                </a:solidFill>
                <a:latin typeface="Arial"/>
              </a:rPr>
              <a:t>-200</a:t>
            </a: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6</a:t>
            </a:r>
            <a:r>
              <a:rPr b="1" lang="ru-RU" sz="2600" spc="-1" strike="noStrike">
                <a:solidFill>
                  <a:srgbClr val="a50021"/>
                </a:solidFill>
                <a:latin typeface="Arial"/>
              </a:rPr>
              <a:t> года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68360" y="1268280"/>
          <a:ext cx="8362800" cy="3267000"/>
        </p:xfrm>
        <a:graphic>
          <a:graphicData uri="http://schemas.openxmlformats.org/drawingml/2006/table">
            <a:tbl>
              <a:tblPr/>
              <a:tblGrid>
                <a:gridCol w="3166920"/>
                <a:gridCol w="865440"/>
                <a:gridCol w="863280"/>
                <a:gridCol w="863640"/>
                <a:gridCol w="936720"/>
                <a:gridCol w="1666800"/>
              </a:tblGrid>
              <a:tr h="554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Наименование показ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  <a:ea typeface="Arial"/>
                        </a:rPr>
                        <a:t>2002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  <a:ea typeface="Arial"/>
                        </a:rPr>
                        <a:t>2003 г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  <a:ea typeface="Arial"/>
                        </a:rPr>
                        <a:t>2004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  <a:ea typeface="Arial"/>
                        </a:rPr>
                        <a:t>2005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  <a:ea typeface="Arial"/>
                        </a:rPr>
                        <a:t>2006 г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  <a:ea typeface="Arial"/>
                        </a:rPr>
                        <a:t>(на 01.06.200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Cyr"/>
                          <a:ea typeface="Arial"/>
                        </a:rPr>
                        <a:t>Всего расходы на здравоохранение, млрд.тенг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Cyr"/>
                          <a:ea typeface="Arial"/>
                        </a:rPr>
                        <a:t>7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Cyr"/>
                          <a:ea typeface="Arial"/>
                        </a:rPr>
                        <a:t>92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Cyr"/>
                          <a:ea typeface="Arial"/>
                        </a:rPr>
                        <a:t>134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Cyr"/>
                          <a:ea typeface="Arial"/>
                        </a:rPr>
                        <a:t>19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29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 расходы на здравоохранение, млрд. долл. СШ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,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,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,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,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,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ходы здравоохранения на душу населения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год, в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Z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 9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 2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8 9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2 5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5 0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Всего расходы здравоохранения в % к ВВ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  <a:ea typeface="Arial"/>
                        </a:rPr>
                        <a:t>1,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  <a:ea typeface="Arial"/>
                        </a:rPr>
                        <a:t>2,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  <a:ea typeface="Arial"/>
                        </a:rPr>
                        <a:t>2,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  <a:ea typeface="Arial"/>
                        </a:rPr>
                        <a:t>2,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,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468360" y="4653000"/>
            <a:ext cx="842472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612"/>
              </a:spcBef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редполагается ежегодное увеличение объема финансирования отрасли                                  с доведением его до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4 %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к ВВП в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201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год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оля расходов на ПМСП в общих расходах на здравоохранение увеличились с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20,7%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 200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году до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25,7%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2006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году. В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201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году предполагается увеличение финансирования ПМС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до 4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067C-2C00-4683-92F1-622BEED1C06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1844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Первичная медико-санитарная помощь (</a:t>
            </a:r>
            <a:r>
              <a:rPr b="1" lang="en-US" sz="2600" spc="-1" strike="noStrike" u="sng">
                <a:solidFill>
                  <a:srgbClr val="a50021"/>
                </a:solidFill>
                <a:uFillTx/>
                <a:latin typeface="Arial"/>
              </a:rPr>
              <a:t>ПМСП</a:t>
            </a: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) – главный приоритет развития и реформирования здравоохранения Казахста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136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зработана новая модель организации ПМСП населению республики, основанная на принципах общей врачебной практи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дусмотрены новые стандарты структуры, типовые штаты и штатных норматив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тверждены минимальные нормативы (стандарты) оснащения организаций ПМСП медицинским оборудова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ыделены в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200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году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,3 млрд.тенг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на доукомплектование и укомплектование медицинских организаций ПМСП медицинскими кадрами в соответствии со штатными норматив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шли переподготовку и повышение квалификации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006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рачей общей практики или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4,5%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 общего числа врачей ПМС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36B6-BE12-47A4-A0A8-C9AA4F5C192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Обеспечение гарантированного объема </a:t>
            </a:r>
            <a:br>
              <a:rPr sz="2600"/>
            </a:b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бесплатной медицинской помощи (</a:t>
            </a:r>
            <a:r>
              <a:rPr b="1" lang="en-US" sz="2600" spc="-1" strike="noStrike" u="sng">
                <a:solidFill>
                  <a:srgbClr val="a50021"/>
                </a:solidFill>
                <a:uFillTx/>
                <a:latin typeface="Arial"/>
              </a:rPr>
              <a:t>ГОБМП</a:t>
            </a: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200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ду на обеспечение ГОБМП предусмотрено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40,0 млрд.тенг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ли на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8,1%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больше, чем в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200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ходы на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жителя в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200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ду запланированы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919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енге (на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41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енге больше, чем расходы в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200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д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клонение расходов на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жителя между регионами уменьшилось с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4,2 раз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200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ду до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,9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за в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200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ду. В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200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ду максимальные расходы на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жителя составили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998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енге (Мангистауская область), минимальные –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472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енге (Алматинская область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0275-AC1F-443E-8446-290C06FD390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50920" y="2204640"/>
            <a:ext cx="864216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ализация «прорывного проекта» по созданию медицинского инновационного кластера г.Астана для прямого трансфера менеджмента и новых технологий по международным стандарт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нижение заболеваемости туберкулезом, ВИЧ/СПИД, материнской и младенческой смертности, улучшение показателей продолжительности жизни как основных индикаторов конкурентоспособности стра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коренная реализация Государственной программы реформирования и развития здравоохранения Республики Казахстан на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2005-201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едрение новых подходов к оплате труда медицинских работников в зависимости от конечного результата труда с учетом его качества, объема и сложности оказываемой медицинской помощ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438120" y="146160"/>
            <a:ext cx="829152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Реализация Послания Президента Республики Казахстан народу Казахстана «Стратегия вхождения Казахстана в число 50-ти наиболее конкурентоспособных стран мира»</a:t>
            </a:r>
            <a:br>
              <a:rPr sz="2400"/>
            </a:b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 как общенациональной иде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D51C-0C14-4BB5-B694-E0AAD8312A7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a50021"/>
                </a:solidFill>
                <a:latin typeface="Arial"/>
              </a:rPr>
              <a:t>Улучшение материально-технической базы организаций здравоохранения в 200</a:t>
            </a: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6</a:t>
            </a:r>
            <a:r>
              <a:rPr b="1" lang="ru-RU" sz="2600" spc="-1" strike="noStrike">
                <a:solidFill>
                  <a:srgbClr val="a50021"/>
                </a:solidFill>
                <a:latin typeface="Arial"/>
              </a:rPr>
              <a:t> год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50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нащенность объектов ПМСП медицинским оборудованием и изделиями медицинского назначения увеличилась более, чем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 2,5 раз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обретено медицинского оборудования и оснащено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836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П и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14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ФАП, что составило соответственно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8,3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90,3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от общего количества объе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куплены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единицы санитарного автотранспорта для СВА (оснащение -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00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и служб скорой медицинской помощ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2792-8690-43F1-AE4C-3B67F7BCEAB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Показатели заболеваемости населения Республики Казахстан социально значимыми болезнями </a:t>
            </a:r>
            <a:br>
              <a:rPr sz="2400"/>
            </a:b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в 2004-2005 гг. 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(на 100 тыс. насел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0" y="1117440"/>
          <a:ext cx="9201240" cy="4543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17440"/>
                    <a:ext cx="9201240" cy="45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4FBA-72C1-4CE7-B2CB-59CC0AE44B6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40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Совершенствование профилактики, диагностики, лечения и реабилитации социально значимых заболевани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556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первые в республиканском бюджете предусмотрено проведение операций по коронарному стентированию (в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2006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. –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70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ьных, с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2007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. предполагается увеличение количества операций         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 2 раз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ьные с сахарным диабетом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00%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беспечены высококачественными препаратами инсулина и средствами его достав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2006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да планируется поэтапное обеспечение онкологических диспансеров необходимой аппаратурой для лучевой терапии и маммографами на общую сумму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,9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лрд.тенг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увеличение закупа химиопрепаратов для онкобольных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 2 раза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с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0,7 млрд.тенг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200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. до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,4 млрд.тенг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2006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2006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ода начато создание региональных центров медико-социальной реабилитации наркозависимых ли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C73B-C63A-4E71-934A-DBC1ECD31450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496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он  «Об охране здоровье граждан в РК»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«О системе здравоохранения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полномоченный орган- Министерство здравоохранения Р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еспечивает  проведение государственной политики в области здравоохранения, медицинской науки, медицинского и фармацевтического образо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уществляет руководство деятельностью организаций медицинского и фармацевтического образо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225"/>
              </a:spcBef>
              <a:spcAft>
                <a:spcPts val="12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сударственное  регулирование здравоохра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6B03-5F30-47F9-A982-DDB59D1E3C9F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857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осударственное  регулирование здравоохра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19120" y="1268280"/>
            <a:ext cx="8300880" cy="53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лизует государственные программы в области здравоохранения, медицинской науки, медицинского и фармацевтического образ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уществляет межотраслевое сотрудничество в интересах здоровья гражда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яет порядок оказания медицинской помощи и обеспечения лекарственными средствами гражда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атывает и утверждает нормативно-правовые акты и нормативные документы, стандарты в области здравоохранения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0CB3-A595-4965-AD1E-FDBD99CC8AF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етенция органов местного государственного управления в области здравоохра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ализируют  государственную политику в области здравоохранения в соответствующей территор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еспечивают реализацию гражданами права на ГОБМП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ют местные органы гос.управления здравоохранением и организуют контроль за кадровым обеспечением гос.организаций здравоохранения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90E9-4E1C-422A-BCEF-9AC9A8212AA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зграничение функц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нное разграничение функций и полномочий было закреплено в 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 году принятием общего пакета изменений и дополнений в более чем 120 законодательных ак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оответствии со ст.29 Закона РК « О местном государственном самоуправлении» назначение  и освобождение на должность руководителя департамента здравоохранения отнесено к исключительной компетенции Акима обла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01A9-B602-4C74-82FA-F4B76E6D6E2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ализация ЗРК»О республиканском бюджете на 2006 год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нистерство здравоохранения выступает Единым организатором гос.закупок здравоохранения при участии представителей департаментов здравоохранения и ГСЭ надзора областей, г.г. Астана и Алматы по программа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 Целевые текущие трансферты областным бюджетам, бюджетам г.Астаны, Алматы  на закуп лекарственных средств, вакцин и др.иммунобиологических препаратов»( обосновывалось необходимостью обеспечения стандартов качества и безопасности лекарственных средств, вакцин и др.иммунобиологических препаратов , приобретаемых для лечения больных с социально-значимыми заболеваниями и проведения вакцинации насе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D3F9-9E5F-4228-89D4-C92818CD8D8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Целевые текущие трансфер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левые текущие трансферты областным бюджетам, бюджетам г.Астаны, Алматы  на материально-техническое оснащение медицинских организаций здравоохранения на местном уровне» -в целях унификации закупа дорогостоящего мед.оборудования(для онкологической службы, кювезов для деских больниц и организаций родовспоможения, маммограф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5BE4-962A-4869-874A-71651F0432D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Целевые текущие  трансфер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республиканской бюджетной программ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2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«Целевые текущие  трансферты областным бюджетам, бюджетам городов Астаны и Алматы                                                                                           на закуп лекарственных средств, вакцин и других иммунобиологических препаратов» на 2007 го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уп противотуберкулезных препаратов (считаем возможным передать данный закуп на местный уровень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по подпрограмме 104 «Целевые текущие трансферты областным бюджетам, бюджетам городов Астаны и Алматы на закуп лекарственных средств, диализаторов, расходных материалов для больных с почечной недостаточностью и лекарственных средств для больных после трансплантации почки»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таем возможным передать закуп  на местный уровен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53BF-7744-416A-9F72-4BE88D4D969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1250"/>
              </a:spcBef>
              <a:spcAft>
                <a:spcPts val="1250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жидаемая продолжительность жизни (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96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ст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250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еринская и младенческая смертность                               (детская смертность –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5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ест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250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лияние туберкулеза на бизнес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87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ест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250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лияние ВИЧ/СПИД на бизнес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6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ст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Основные индикаторы здоровья населения, определяющие конкурентоспособность стр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F583-FAC9-4D16-B289-3BAA6A66FF7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Целевые текущие трансфер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подпрограмме 103 «Целевые текущие трансферты областным бюджетам, бюджетам городов Астаны и Алматы на закуп химиопрепаратов онкологическим больным»- 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таем возможным передать закуп  на местный уровен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Программ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3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Целевые  текущие трансферты областным бюджетам, бюджетам г. Астаны, г.Алматы на МТ оснащение  медицинских организаций на местном уровне- закуп в феврале – марте  2007 года 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таем возможным передать закуп  на местный уровен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48F9-D717-47E6-9929-648C7ED3EDE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Arial"/>
              </a:rPr>
              <a:t>Благодарю за внимание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EDEA-04DF-4C94-ABD6-395A42AC82E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Ожидаемая продолжительность жизни </a:t>
            </a:r>
            <a:br>
              <a:rPr sz="2400"/>
            </a:b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при рождении (2005 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0" y="1484280"/>
          <a:ext cx="9144000" cy="462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84280"/>
                    <a:ext cx="9144000" cy="46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7E9C-B9F5-47DB-99A4-E3B8FAB817E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Меры по улучшению показателей продолжительности жизн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375"/>
              </a:spcBef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вышение доступности и качества медицинской помощи населению путем внедрения новых технологий диагностики и леч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375"/>
              </a:spcBef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оздание единой системы реализации региональных программ по формированию здорового образа жизн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375"/>
              </a:spcBef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еализация мер по обеспечению чистой питьевой водой, снижение воздействия неблагоприятных экологических и производственных факторов на здоровье населения для снижения смертности населени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6C51-10C5-48F5-BDE0-F609A0CFF3A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Показатели младенческой и материнской смертности в Республике Казахст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50920" y="981000"/>
          <a:ext cx="8638920" cy="530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981000"/>
                    <a:ext cx="8638920" cy="530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A84C-12FF-4374-A13D-ADB9A24CAB5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7929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Сравнительные показатели младенческой и материнской смертности в 2004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0" y="1066680"/>
          <a:ext cx="8388360" cy="474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66680"/>
                    <a:ext cx="8388360" cy="474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324000" y="5661000"/>
            <a:ext cx="806580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5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 внедрением критериев живорождения с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200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года, рекомендованных ВОЗ, прогнозируется увеличение показателя младенческой смерт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840800" y="1341360"/>
            <a:ext cx="1303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100 случаев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67200" y="1484280"/>
            <a:ext cx="1498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3901 случай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4737-0625-4BFC-A0E2-10265D1E797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137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Охрана здоровья матери и ребенка – приоритетная задача Госпрограмм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090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течение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200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ода проведены бесплатные профилактические медицинские осмотры женщин репродуктивного возраста от   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о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3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лет (охват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98%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енщин данной категории или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,7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лн.женщин, выявлено больных –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23,3%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оздоровлено –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59%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енщи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2006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ода все женщины в возрасте от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о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49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лет пройдут бесплатные профилактические осмотры. Выделено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2,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лрд. тенг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беременные женщины в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2006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ду на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00%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беспечены железо- и йодосодержащими препаратами. В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2006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оду выделено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926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лн.тенг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4336-71B6-420B-ACA7-7C0F03B14B3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137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Охрана здоровья матери и ребенка – </a:t>
            </a:r>
            <a:br>
              <a:rPr sz="2600"/>
            </a:b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приоритетная задача Госпрограмм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35164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дети в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200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ду до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ти лет обеспечены бесплатными лекарственными средствами на амбулаторном уров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2006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да  дети  и подростки, состоящие на диспансерном учете  обеспечиваются  бесплатными лекарственными средств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200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д приобретено медицинского оборудования для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57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одовспомогательных организаций и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4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женских консультаций. Выделено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,3 млрд.тенг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200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ду родовспомогательным организациям для оснащения кювезами, аппаратами искусственной вентиляции легких, УЗИ и другими выделено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,9 млрд.тенг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87D9-5287-4D01-BCD3-FCE96063494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8T10:34:01Z</dcterms:created>
  <dc:creator>Бермагамбетова</dc:creator>
  <dc:description/>
  <dc:language>en-US</dc:language>
  <cp:lastModifiedBy>Расул Дюсенов</cp:lastModifiedBy>
  <dcterms:modified xsi:type="dcterms:W3CDTF">2006-10-20T01:33:48Z</dcterms:modified>
  <cp:revision>356</cp:revision>
  <dc:subject/>
  <dc:title>Слайд 1</dc:title>
</cp:coreProperties>
</file>