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BB3-A0CB-4D2D-9799-2813111B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2FB0-EF01-4DB0-8C74-AE7E8729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B9D3-A05F-4B9D-AB31-2D8A03DB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DE4-3F41-478E-A866-30A26CA0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D4E9-99E5-4E79-ACA7-3C134E4E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02D0-7BC7-4D72-A877-1E20D2ED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FAF5-0BE6-46A9-BB26-2B409FEC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471B-176C-4E01-A320-11ABE9D4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D45D-8755-4486-B32F-B6440B6A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6345-7B4E-41CA-B2A2-06964FF4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903D-9880-4E49-964B-D4D99743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EBE-C5D0-4175-B9C8-CC353D14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FC83-2374-47D4-8212-CE75113A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44A6-F3CC-4F9A-B358-A95AECAF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07FE-53C8-4715-BE6A-32064D05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8282-5A30-4904-980F-1E57EB41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2A40-81EB-44D3-AB7D-C4D47D47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D9B-3238-4E55-8419-1C95A229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659E-DA2E-40E9-8870-9DA92968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8BD2-0C40-48DC-B0C7-C3736637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222-30B6-4FA7-846A-B4797067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63F-81BB-40D7-AA5E-A7CAAFD0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796-7999-4354-AAC6-28CB7E98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B24-1D11-4E00-8940-BC65DE11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EF13-74F0-472A-A4BB-3E39CE68B7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D10E-3A83-4F94-B530-C8FAAB053A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</a:t>
            </a: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овершенствование основ политики и управления  в здравоохранении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. KULZHANOV M.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zakhstan School of Public Heal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aty, October 20-21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ретьей составляющей оценки качества управления является анализ показателя экономи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т.е. соотношения результата к затра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Управленческие решения на уровне обла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6% - решения по частным вопро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4% - значимые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3% - принятые единолично руко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% - развитию общестационарной и ПМС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ладание решении по вопросам специализированной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истема подбора, обучения и расстановки кадр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тверждение критериев от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бор резерва руководящих кад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равление на обучение (1-2 годичные кур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вижение на руководящую долж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Управления по результатам в здравоохранении,основные разделы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ясных целей и подцелей для системы здравоохра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системы сбалансированных показателей здоровья и развития системы здравоохра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ханизмы работы в новой системе управления  и взаимодействие  учреждений здравоохранения между собой и с вышестоящими уровнями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нансирование (одноканальная система финансирования, составление проекта бюджета  ориентированного на результат (показатели здоровья и др. индикаторы) (новая форма бюджетной заяв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мер формулирования целей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ять целей системы здравоохранения для  повышения показателей здоровья населени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смертности населения от болезней системы кровообра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смертности населения от онкологических заболеваний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смертности населения от травм и от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заболеваемости населения болезнями органов дыхания, включая Т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детской заболевае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Пример формулирования целей повышения эффективности системы здравоохран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49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 внедрение новой системы планирования и  финансирования по методологии бюджетирования ориентированного на результ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системы стимулирования ЛПУ за эффективное использование финансов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системы учета таким образом, чтобы она позволяла оценить воздействие оказываемых услуг на здоровье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дрение стандартов качества оказываемых услуг в каждой ЛПУ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11640" y="333000"/>
            <a:ext cx="25779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долж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лановых значений уровня качества оказываемых услу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периодического мониторинга качества оказываемых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типовой системы мотивации персонала, ориентированной на достижение ц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единой закупочной политики лекарственного обеспе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нтернет-сайтов департаментов здравоохранения обла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торой составляющей оценки качества управления является анализ результатив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Результативность характеризуется соотношением поставленных целей и достигнуты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Пример показателей, характеризующих результативность здравоохран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ртность от болезней системы кровообращения на 100 000 нас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ичная заболеваемость туберкулёзом на 100 000 взрослого и детского нас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ая выявляемость онкологических заболеваний в I-II стадия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мплектованность физическими лицами должностей врачей-терапевтов участковых, врачей-педиатров участковых, врачей общей практики их соотнош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ельный вес больных инфарктом миокарда, госпитализированных в первые 6 часов от начала заболе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Примеры целевых показателей реформирования управления системой здравоохранения для областного уровня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формированной бюджетной заявки по новой методологии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я медицинских работников, прошедших обучение по алгоритмам оказания услу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утвержденного Плана мероприятий по реализации Кадровой политики в сфере здравоо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Единой базы данных по врачебному и сестринскому персоналу, работающему в учреждениях здравоохранения обла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базы данных оснащения учреждений здравоо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ичность обновления Интернет-сайта департамента здравоо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Пример целевых показателей здоровья для районного уровня управления здравоохран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ртность от инфаркта миокарда и цереброваскулярных болезней в райо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ничная летальность от инфаркта миокарда и цереброваскулярных болезн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ртность от травм и отравлений в райо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летняя выживаемость больных онкологическими заболевания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ота обострений хронических заболеваний у детей, состоящих на диспансерном учете в данном учреждении здравоохранения, наличие группы ЧД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9:25:21Z</dcterms:created>
  <dc:creator>Kulzhanov</dc:creator>
  <dc:description/>
  <dc:language>en-US</dc:language>
  <cp:lastModifiedBy>sauko</cp:lastModifiedBy>
  <dcterms:modified xsi:type="dcterms:W3CDTF">2006-10-19T15:08:37Z</dcterms:modified>
  <cp:revision>4</cp:revision>
  <dc:subject/>
  <dc:title>Cовершенствование основ политики и управления  в здравоохранении </dc:title>
</cp:coreProperties>
</file>