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7466-D926-4A8F-9F15-36433CFF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D908-7E3C-49F8-AAB0-0A8A3BD7C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CD76-89CA-405D-80EF-EA85EEA6F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2083-DB4A-4F91-839B-0C54AF4E6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89E95-B654-46DB-B0AE-64BBFDA2C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BA70-284A-49D1-89DA-EA8E0AB5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0A44-2BEA-46CE-AAFC-99115B89F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50A0-4AFE-433E-8F12-FEC762892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1A77-AF09-4EF9-82B5-FB3194646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2535-F824-4778-8E45-C60B805F6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2520-DB2C-490F-881A-E9437510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3D2F-9E56-4504-BE2E-0E025579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F0E0-50CD-4CF6-B31A-300871A1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4DBE-316A-43C6-8AFC-A0C8E334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0003F-11AE-4B69-A631-EBBC9DA4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593DC-AE56-4517-83A8-351FB400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56C3-F872-4F14-8291-91B2D49C0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D891-5EBC-4B31-922E-BE507382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2D35-267B-4DC0-9C8C-E7BB3FB2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9B4-9C8A-4088-AE92-CADD7389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22DA-E551-4001-9066-349A103E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745B-80AC-4CB5-B574-282F1D9B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CB06-87D8-4FA3-94EF-5AC0E44D8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60F-EC40-44CA-8B79-C3D21E12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1C72-74A3-4017-93F4-1022C9FA297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130E1-E6CE-4060-BFE6-14996ECD8EC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Современные подходы к научно-практическому сопровождению реформирования системы здравоохранения Р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Биртанов 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Институт развития здравоохранения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З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Определение главной це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разработка и реализация новых программ реформирования здравоохранения -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задача для всего обще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с реальным участием всех государственных и общественных институтов, а в первую очередь –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 реальным участием насел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, с учетом его реальных и перспективных потребностей в охране и укреплении здоровья в условиях глобальной интеграции и конкурен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Обеспечение эффективности реформ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ологическое обеспече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рганизационное обеспечение (финансовое, нормативное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проблем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совершенство планирования и управления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малые инвести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изкая инновационная результативность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ый потенциал (кадровый, технический, методологический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слабая международная интеграция, отсутствие конкурентоспособности на внешнем и внутреннем «рынке» НИР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- состояние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Слабый уровень и качество исследований системы здравоохранения, их невостребованность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рая недостаточность современных, научно-обоснованных, инновационных технологий</a:t>
            </a: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 в области организации, управления и экономики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MD" sz="2400" spc="-1" strike="noStrike">
                <a:solidFill>
                  <a:srgbClr val="000000"/>
                </a:solidFill>
                <a:latin typeface="Verdana"/>
              </a:rPr>
              <a:t>Неспособность науки полноценно решать актуальные проблемы реформирования и развития здравоохран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ирование системы управления научно-технической сферо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В принципиальном плане эту новацию можно трактовать как переход от управления научными учреждениями, как это было раньше, к управлению научными исследованиями» (Из выступления Президента на юбилейном заседании НАН РК 13.10.2006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а управления наукой в РК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ВНТК под руководством Премьер-Министра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оздан Комитет по науке МОН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создан Фонд нау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ут созданы 5 национальных лабораторий открытого типа по приоритетным направлениям, 15 университетских лаборатори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одготовка перспективных ученых за рубежом и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удет принята Государственная программа развития науки на 2007-2012 гг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Научно-методическое обеспечение реформ – новые подход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величение инвестиций в НИР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esearch &amp; development)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в том числе из негосударственных источников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Разработка инновационных технологий и обеспечение их внедр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иление кадрового, технологического (ИТ) и методологического потенциала (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pacity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недрение международных стандартов, принципов корпоративного управления в деятельность научных организац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учение и адаптация лучшего мирового опыта и технологий на основе прямого и эффективного международного сотрудничеств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Обеспечение реформ и развития здравоохранения – основные компоненты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ратегическое планирование и управ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Эффективное и рациональное финанс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ередовая научно-методологическ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Качественная нормативная ба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овременная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институциональная баз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развит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циональная поддержка устойчивого развития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онды и институты развития для реализации проектов в несырьевом сектора экономики (АО «Казына») - 136 проектов на сумму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6 млрд., в 2007-2009 гг. инвестиционная потребность –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0 млрд. из них с участием институтов развития -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3,5 млрд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Финансирование науки в 2007 г. составит науки 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135 млн., из них – 10% из Фонда нау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чевидно, в РК необходимы современные национальные институты развития сферы здравоохранения в рамках развит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циальных секторов экономики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Цель – научное, организационно-методологическое, образовательное и финансовое обеспечение реформирования и устойчивого развития системы здравоохранения в Р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Реформы в здравоохранени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аучно-методическое и организационное сопровождение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Институты развития здравоохранения – новые задач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Научно-методологическая поддержка негосударственного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Разработка и поддержка инвестиционных проектов в сфере здравоохранения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ивлечение негосударственных, в том числе, иностранных инвестиций в отрасль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внедрения современных стандартов и технологий управления и финансирования в здравоохранени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Проведение маркетинговых, социологических исследован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Обеспечение конкурентоспособности отечественного здравоохранения в регионе и мир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Таким образом, сегодня нам необходимы новые стратегии в реформировании сферы здравоохранения, основанные на четком видении перспективных целей, на интеграции со всеми секторами экономики, и на основе применения современных научных и институциональных технологий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Спасибо за внимание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еформирование здравоохран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Необходимость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Опыт реформ прошлых лет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Приоритеты дальнейших реформ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Необходимость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фундаментом динамично процветающего общества может быть только современная, конкурентоспособная и открытая рыночная экономика…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(Послание Президента РК Н.А.Назарбаева народу Казахстана «Стратегия вхождения Казахстана в число 50-ти наиболее конкурентоспособных стран мира. Астана, 1 марта 2006 г.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Готово ли отечественное здравоохранение стать элементом такого общества и такой экономики?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Опыт прошлых л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Логика прошлых реформ: сложившаяся ситуация и имеющиеся предпосылки обуславливали цели развития – планирование от достигнутого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За всю историю развития отечественного здравоохранения во время реализации разных программ реформирования системы здравоохранения не было проведено ни одной серьезной реструктуризации отрасли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…» (Аканов А.А., Здравоохранение Казахстана: на пороге структурных преобразований (взгляд в будущее, 2006)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Приоритеты будущих реформ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Реформа здравоохранения должна быть интегрирована с системной модернизацией экономики всей стран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Необходимо определить место и роль системы здравоохранения в процессе построения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современного постиндустриального общества с высоким уровнем благосостояния и социального обеспечения, с эффективной многоотраслевой национальной экономикой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Приоритетные задачи программы модернизации эконом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47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еодоление бедности и создание среднего класс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необходимых условий для повышения качества человеческого капитала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Создание условий для диверсификации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силение роли государства в формировании конкурентоспособной экономи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билизация внутренних накоплений для инвестирования экономических преобразований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тие производственной и социальной инфраструктуры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(К.Берентаев, КАПИТАЛ.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Z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, 2006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Разработка долгосрочной стратеги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Формулировка главной цели развития отрасли в рамках социально-экономического развития на долгосрочную перспективу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Конкретизация целей с выделением этапов их реализаци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пределение необходимых условий и предпосылок для каждого этапа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От будущего состояния к текущему – увязка между задачами различных этапов, их предпосылками и условиям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Главная цель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«</a:t>
            </a:r>
            <a:r>
              <a:rPr b="0" i="1" lang="en-US" sz="2500" spc="-1" strike="noStrike">
                <a:solidFill>
                  <a:srgbClr val="000000"/>
                </a:solidFill>
                <a:latin typeface="Verdana"/>
              </a:rPr>
              <a:t>окончательно сформировать новую модель здравоохранения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»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основной и «цементирующий» элемент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 социальной политики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для построения конкурентоспособного общества на основе развития эффективной националь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Здравоохранение как часть </a:t>
            </a:r>
            <a:r>
              <a:rPr b="1" lang="en-US" sz="2500" spc="-1" strike="noStrike">
                <a:solidFill>
                  <a:srgbClr val="000000"/>
                </a:solidFill>
                <a:latin typeface="Verdana"/>
              </a:rPr>
              <a:t>национальной экономической доктрины государства</a:t>
            </a: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 в условиях глобальной рыночной экономики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9T17:14:52Z</dcterms:created>
  <dc:creator>Serg</dc:creator>
  <dc:description/>
  <dc:language>en-US</dc:language>
  <cp:lastModifiedBy>Serg</cp:lastModifiedBy>
  <dcterms:modified xsi:type="dcterms:W3CDTF">2006-10-20T01:13:03Z</dcterms:modified>
  <cp:revision>10</cp:revision>
  <dc:subject/>
  <dc:title>Современные подходы к научно-практическому сопровождению реформирования системы здравоохранения РК</dc:title>
</cp:coreProperties>
</file>