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EA0-F99B-4FD0-B6B1-0E13C4BA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2BE-3AF6-42FA-8C4B-635F0B07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FCD-41D3-4CF7-83FA-42FCE0C2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A4B-428B-4122-ACC7-CA963105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A7B-5AC0-48AF-B857-F0254D0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C8A-B08A-4EB1-98AC-222DC5B9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1B9-48AE-4189-981E-0498748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528-6678-4A22-AE75-2A9BBBAC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0E3-4BD8-4942-B81F-D82B6852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C7F-D890-42A7-A91B-7670D40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AAA-6375-4792-9908-9592EB4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AF5-A524-484D-8C32-ECA5F9C5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73D2-8B57-41C1-A3A0-23CD80611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сто и роль службы крови в обеспечении безопасности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т развития здравоохранения МЗ 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ймагамбетова М.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омендации ВОЗ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 переливания крови с централизованным управлением на уровне страны и системами управления качеством на все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товка крови от добровольных доноров из групп населения с низким риском на безвозмездной основе. Привлечение к донорству здоровых людей уменьшает риск сбора инфицированной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ининг всей заготовленной крови на маркеры гемотрансмиссивных инфекций: ВИЧ-инфекция, гепатиты и сифи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екватное клиническое использо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ежегодного Дня Донора 14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*ДОКУМЕНТЫ ВОЗ и МЕЖДУНАРОДНЫЕ ПРОЕКТЫ Выпуск 14, Январь 2006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обальная программа ЕС по координации службы крови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программа по трансфуз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государственн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и подзаконные нормативн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ая 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, выделенный специально для реализации Государствен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вольная безвозмездная сдача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ые стандарты деятельности организаций служб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цированный персонал на республиканском и местны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я оценка качеств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tory Instrument 2005 N5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рабочей группы при МЗ РК с участием научных и практических работников для выработки следующих научно обоснованных 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Концепции государствен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ные направления развития службы крови в области безопасного доно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поощрения донорства на бесплатной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программа по развитию и стандартизации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стандартов для различных уровней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 (оборудование, помещения, персон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ы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научно обоснованной методологии аудита и проведение аудита всех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степени соответствия стандар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требностей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рнизация службы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нование госинвестиций на основе отчета по результатам ауд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оснащение существующ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новых\увеличение мощностей или оптимизация действующих согласно оценке потребностей рег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 реализации Государствен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сть ретроспективного наблюдения реципиентов крови и крове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илить пропаганду бесплатного дон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зопасность крови и крове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едупреждение передачи с донорской кровью инфекционных заболеван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Ч инфек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титов В и 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фи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ов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Казахстан деятельность службы крови регламентируется следующими зако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б охране здоровья граждан в Р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донорстве крови и ее компон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профилактике заболевания СПИ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службы кров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ы крови (республиканский, областные, г.г. Астана и Алматы, региональные) – 2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ения переливания крови в ЦРБ и ряде сельских больниц –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ницы, заготавливающие кровь –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По данным РЦ кров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006г.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жба крови осуществ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ятельность по снабжению организаций здравоохранения кровью и ее компон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у показаний к переливанию крови и ее продуктов в кли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ение новых препаратов крови, консервирующих растворов, а также кровезамен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ь службы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ор дон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р и заготовка крови и ее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безопасность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перебойное снабжение лечебных организаций цельной кровью и ее проду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здоровье дон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дельные показатели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доноров – 300 тыс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заготовки консервированной крови – 280 тыс.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ливание цельной крови – 4,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По данным РЦ крови –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Ч-инфекция среди дон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3 году 30 доноров с ВИЧ были выявлены в 5 областях республ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4 году – 22 донора в 7 облас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5 году – 30 доноров в 8 областя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имущественно эти доноры из группы риска (9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начало 2006 года (за период регистрации ВИЧ в РК) выявлено всего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2 донора с ВИЧ инфекци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ровь уничтож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ВИЧ инфицированных рецип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бсолютный брак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реднем в год более 4%* забираемой крови уничтожается в связи с положительными результатами в ИФА на ВИЧ, гепатиты В и С, сифи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- по данным РЦ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22:47Z</dcterms:created>
  <dc:creator>18</dc:creator>
  <dc:description/>
  <dc:language>en-US</dc:language>
  <cp:lastModifiedBy>18</cp:lastModifiedBy>
  <dcterms:modified xsi:type="dcterms:W3CDTF">2006-10-20T02:09:19Z</dcterms:modified>
  <cp:revision>27</cp:revision>
  <dc:subject/>
  <dc:title>Место и роль службы крови в обеспечении безопасности медицинской помощи</dc:title>
</cp:coreProperties>
</file>