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D631-79EC-47F8-A4FF-2C001D809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6BD6-0D81-486B-8AD7-ECF01984E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0B73-6984-4551-927F-456647C29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F829-30E7-4262-8B28-6AE68AC14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D77A3-3D8C-47D7-873B-EEA78F2DD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7A7F2-978B-46A2-B5FC-CCD8B0612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BDA47-0AE4-49FE-81F9-47D89BEB4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23737-B4AD-4E8A-8124-8CA622658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10B22-1FC2-4B43-8115-31C45F054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3FCB0-E1E7-4524-8444-B3F39F28C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13DB6-A28E-4CEF-AC27-99639F901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FB40-4A9F-4F41-B26D-663B36BCB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88326-4C95-49C6-8D2A-8D0514B76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6F1EF-0EBD-43A1-B12C-A6221893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4809C-EA1F-47A4-B343-B58D76057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36DEB-E971-4D44-BFE9-EBE2AFAC9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4781A-4B9A-4533-94BF-8688BDD6A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2281-4008-4687-9FEA-9F1C0CF61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8B43-0E1A-4F4D-8881-AE785990E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3855-7247-4361-BEFB-106A85481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7E0E-2260-466B-8715-ED031FC96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3F89-4EC2-42D8-8977-954C1E7A3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9ABB-7F00-4171-9A6E-07EAB3EE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F082-8F52-47F0-842F-44CF01BCE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A7AA3-7843-46EC-BE44-4EC55EC7A54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C74F0-DCF0-42E8-A052-46F9A045A41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7640" y="466200"/>
            <a:ext cx="70642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Взгляд в будущее. </a:t>
            </a:r>
            <a:br>
              <a:rPr sz="4800"/>
            </a:br>
            <a:r>
              <a:rPr b="0" i="1" lang="ru-RU" sz="3200" spc="-1" strike="noStrike">
                <a:solidFill>
                  <a:srgbClr val="330066"/>
                </a:solidFill>
                <a:latin typeface="Monotype Corsiva"/>
              </a:rPr>
              <a:t>Здравоохранение Казахстана на пороге структурных преобразований</a:t>
            </a: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сновные элементы Госпрограмм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ренное преобразование ПМСП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еформа больничного дел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оздание трехуровневой системы контроля качества медицинских услу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недрение международных стандартов в лекарственном обеспечени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еформа медицинского образования и нау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Единая информационная систем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звитие специализированных служ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еловеческие ресурсы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овершенствование управления отраслью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Реализация Госпрограмм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 каждому направлению разработана концепция на 2006-2010 гг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чата реализация программ реформирования ПМСП, медицинского образования, развития человеческих ресурсов, управления и финансиров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ближайшее время должны развиваться остальные разделы программы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Вывод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 проведено ни одной серьезной реструктуризации отрасл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 волне больших финансовых вливаний отмечается тенденция увеличения  интенсивных показателей, на фоне низкого качества медицинских услу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обходимость структурных преобразований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создание новых отношений, ориентир на конечные результаты деятельности, качество медицинских услуг, ресурсное обеспечение кадрами новой формации, модернизация, внедрение международных стандартов образования, медицинской науки и практик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40428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330066"/>
                </a:solidFill>
                <a:latin typeface="Arial"/>
              </a:rPr>
              <a:t>Вызовы времени</a:t>
            </a: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ормирование философии новой модел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недрение парадигм рыночной экономи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лная интернационализация конкурентоспособного сектора: переход на международные стандарты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0066"/>
                </a:solidFill>
                <a:latin typeface="Arial"/>
              </a:rPr>
              <a:t>НАСТОЯЩАЯ РЕФОРМА ВПЕРЕД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ЧС В ЮКО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ассовое заражение  детей от 2-х месяцев до 2-х лет ВИ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очему?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истемные наруш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рганизации медицинской помощ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едицинских технологи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блемы в управлении системой здравоохран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ричины кризис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9280" y="1719360"/>
            <a:ext cx="878544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е эффективная деятельность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лужбы кров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анитарно-эпидемиологического надзор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лужбы внешнего контроля качества медицинских услу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лужбы внутреннего контроля качеств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лужбы противодействия ВИЧ\СПИД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 др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уществующая система здравоохранения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е отвечает за последств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е заинтересована в конечном результате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е мотивирована во внедрении последних современных технологий и достижений медицинской нау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ехнологически и материально отстал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е конкурентоспособн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Вопросы, которые волнуют нас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то будет с существующей системой организации здравоохранения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кой будет новая модель? Как будет развиваться здравоохранение в ближайшие годы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к вернуть доверие населения и уверенность медицинским работникам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кие проблемы отрасли сегодня наиболее актуальны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к усилить госпрограмму реформирования и развития отрасли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ткрытые вопросы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ужен ли переход на страховую медицину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ак создать систему здравоохранения, предполагающую ответственность пациента: сооплата, доплата…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ак увеличить зарплату медицинским работникам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ак создать стимулы для повышения качества услуг и конкуренции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История реформ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992 г.- необходимость создания новой системы здравоохранения: советская модел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996-1998 гг. – разработка  и внедрение бюджетно- страховой системы здравоохран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 1999 г. - бюджетная модель: постсоветская систе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Уроки реформ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и одна реформа отрасли не была доведена до логического конца, не осмыслена, не проштудирована с извлечением глубоких и системных вывод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е была проведена действенная структурная реформа отрасли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Этапы реформ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се предыдущие усилия – первый этап реформы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Цель второго этапа – формирование новой модели здравоохранени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мер: Государственная программа реформирования и развития здравоохранения на 2005-2010гг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4T16:41:17Z</dcterms:created>
  <dc:creator>test</dc:creator>
  <dc:description/>
  <dc:language>en-US</dc:language>
  <cp:lastModifiedBy>user</cp:lastModifiedBy>
  <dcterms:modified xsi:type="dcterms:W3CDTF">2006-10-19T11:26:07Z</dcterms:modified>
  <cp:revision>15</cp:revision>
  <dc:subject/>
  <dc:title>Слайд 1</dc:title>
</cp:coreProperties>
</file>